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C48-2287-4DF4-BB26-118E97B4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672-5BB5-476C-AB33-9D16E47C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C20-E3F4-4F64-AA63-8B2B191D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8D0-37E7-48B6-B170-20F95E92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5F6-723C-4D72-B2AB-F9CD9EBB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C79-7986-4920-B419-67EA1C46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16D-A679-4254-AE33-7A96DF0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02F-C65B-4DE0-97C8-E9686E92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404-ED2B-411D-BE91-A05085DD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DBF-AF4D-4550-B6D1-AD49ABF4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1B2-50AF-44D4-842F-465E88E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72B-636F-4EDF-B161-5E8F08F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F2F0-FD6A-47CF-8531-E46C96719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ller Intervention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benefits: raises water productivity; double the cropping season and thus yields; greater food security and cash income; high value crops; integration with other components (fruit trees, legumes, grains, fod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Issues: siltation; upstream/downstream conflicts and competition; glut on market; equity issues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ofore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soil fertility; reduce soil erosion; cash income; food; fodder; constructio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actices: improved fallow; trees on farm; woodlots; fenc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competition over limited space; ownership of trees; establishment challenges (management, livestock predation); labor; access to see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high yielding varieties increasing harvest for food and cash; fodder; fuel; th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access to markets for inputs (fertilizer, herbicides); land preparation and management; trade-offs of improved variety for grain versus fodder needs; quality of grain affected b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and sweet potato benefits: high value per unit of water; can store in field; food security – fills hunger gap; cash crop not as affected by global price fluctuations; high yielding ‘lazy farmer’ crop; drought resistant; relay crop; good in rotation; use of residual soil moisture; dual purpose – fodder and food; Vitamin A from orange-fleshed sweet potato – addressed malnutrition; new storag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torage, weight-distance to market, rainy season spoilage (though improved varieties address this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e Ri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yield increases; improved water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oils; slope;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a conceptual framework to rapidly assess complex system to determine possible i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facilit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 and Institution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on the process: what are the impacts of the conceptual approach and implementation on the project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st approach and operationaliz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09:35Z</dcterms:created>
  <dc:creator>Katherine</dc:creator>
  <dc:description/>
  <dc:language>en-US</dc:language>
  <cp:lastModifiedBy>Katherine</cp:lastModifiedBy>
  <dcterms:modified xsi:type="dcterms:W3CDTF">2012-02-01T12:21:20Z</dcterms:modified>
  <cp:revision>7</cp:revision>
  <dc:subject/>
  <dc:title>‘Killer Interventions’</dc:title>
</cp:coreProperties>
</file>